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B7F-06A9-4D10-8C79-B87BA9BD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C2E-90A1-4C0E-BC39-E06535CE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5C5-B696-4437-AA09-1B50D22A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72B-344D-460D-97D4-61670E13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696-EC3C-4620-8B5D-4D8BD572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4FF-BE89-4E8D-9AB2-94A2440D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4C1-73C6-49A0-9DD3-2D5FB244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763-88D7-41A8-8669-82928795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6AC-CAAB-4A61-BFCF-C9592272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ECC-344A-4182-B87F-2E07451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059-5F8B-463C-8023-4A84291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EF7-EA3F-4ABB-9F65-A2DB2914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30A3-5B3C-4607-9DB9-BB9E8E770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1"/>
          <p:cNvGrpSpPr/>
          <p:nvPr/>
        </p:nvGrpSpPr>
        <p:grpSpPr>
          <a:xfrm>
            <a:off x="228600" y="1905120"/>
            <a:ext cx="6578640" cy="4423680"/>
            <a:chOff x="228600" y="1905120"/>
            <a:chExt cx="6578640" cy="4423680"/>
          </a:xfrm>
        </p:grpSpPr>
        <p:sp>
          <p:nvSpPr>
            <p:cNvPr id="42" name="Line 14"/>
            <p:cNvSpPr/>
            <p:nvPr/>
          </p:nvSpPr>
          <p:spPr>
            <a:xfrm>
              <a:off x="3430440" y="2813760"/>
              <a:ext cx="0" cy="66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 Box 15"/>
            <p:cNvSpPr/>
            <p:nvPr/>
          </p:nvSpPr>
          <p:spPr>
            <a:xfrm>
              <a:off x="2111760" y="1905120"/>
              <a:ext cx="2693160" cy="604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areer Clusters Framewor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16 Career Clust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6 Career Path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nowledge &amp; Skills Statem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 Box 16"/>
            <p:cNvSpPr/>
            <p:nvPr/>
          </p:nvSpPr>
          <p:spPr>
            <a:xfrm>
              <a:off x="2155680" y="3539520"/>
              <a:ext cx="2610000" cy="93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gram of Stud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tegration of Career and Academic Educa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igor, Relevance, Relationship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eamless Transition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 Box 17"/>
            <p:cNvSpPr/>
            <p:nvPr/>
          </p:nvSpPr>
          <p:spPr>
            <a:xfrm>
              <a:off x="2476440" y="5912280"/>
              <a:ext cx="1906560" cy="41652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ersonal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228600" indent="-22860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 of Stud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18"/>
            <p:cNvSpPr/>
            <p:nvPr/>
          </p:nvSpPr>
          <p:spPr>
            <a:xfrm>
              <a:off x="290880" y="2930400"/>
              <a:ext cx="173808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Job Outlook/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dustry-Specific Requirem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 Box 19"/>
            <p:cNvSpPr/>
            <p:nvPr/>
          </p:nvSpPr>
          <p:spPr>
            <a:xfrm>
              <a:off x="4970160" y="2930400"/>
              <a:ext cx="1412640" cy="459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raduation/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ostsecondary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quirement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20"/>
            <p:cNvSpPr/>
            <p:nvPr/>
          </p:nvSpPr>
          <p:spPr>
            <a:xfrm>
              <a:off x="3461400" y="456264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23"/>
            <p:cNvSpPr/>
            <p:nvPr/>
          </p:nvSpPr>
          <p:spPr>
            <a:xfrm>
              <a:off x="912240" y="3510720"/>
              <a:ext cx="1243080" cy="65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4"/>
            <p:cNvSpPr/>
            <p:nvPr/>
          </p:nvSpPr>
          <p:spPr>
            <a:xfrm flipH="1">
              <a:off x="4766040" y="3455280"/>
              <a:ext cx="998640" cy="709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5"/>
            <p:cNvSpPr/>
            <p:nvPr/>
          </p:nvSpPr>
          <p:spPr>
            <a:xfrm>
              <a:off x="1860480" y="5282640"/>
              <a:ext cx="615600" cy="66888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6"/>
            <p:cNvSpPr/>
            <p:nvPr/>
          </p:nvSpPr>
          <p:spPr>
            <a:xfrm flipH="1">
              <a:off x="4382280" y="5282640"/>
              <a:ext cx="672120" cy="66888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7"/>
            <p:cNvSpPr/>
            <p:nvPr/>
          </p:nvSpPr>
          <p:spPr>
            <a:xfrm>
              <a:off x="974520" y="6113160"/>
              <a:ext cx="1491120" cy="13464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8"/>
            <p:cNvSpPr/>
            <p:nvPr/>
          </p:nvSpPr>
          <p:spPr>
            <a:xfrm flipH="1">
              <a:off x="4393440" y="6190200"/>
              <a:ext cx="931680" cy="134640"/>
            </a:xfrm>
            <a:prstGeom prst="pie">
              <a:avLst/>
            </a:prstGeom>
            <a:noFill/>
            <a:ln w="19080">
              <a:solidFill>
                <a:srgbClr val="c050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29"/>
            <p:cNvSpPr/>
            <p:nvPr/>
          </p:nvSpPr>
          <p:spPr>
            <a:xfrm>
              <a:off x="5264280" y="5729040"/>
              <a:ext cx="1542960" cy="33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Intra- and Co-Curricular Learning Experienc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30"/>
            <p:cNvSpPr/>
            <p:nvPr/>
          </p:nvSpPr>
          <p:spPr>
            <a:xfrm>
              <a:off x="228600" y="5650560"/>
              <a:ext cx="1232640" cy="459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Work-based Learning Opportunit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22"/>
            <p:cNvSpPr/>
            <p:nvPr/>
          </p:nvSpPr>
          <p:spPr>
            <a:xfrm>
              <a:off x="4383000" y="4937760"/>
              <a:ext cx="1345680" cy="215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Community Servi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21"/>
            <p:cNvSpPr/>
            <p:nvPr/>
          </p:nvSpPr>
          <p:spPr>
            <a:xfrm>
              <a:off x="1299960" y="4937760"/>
              <a:ext cx="1344600" cy="33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504d"/>
                  </a:solidFill>
                  <a:latin typeface="Arial"/>
                  <a:ea typeface="MS PGothic"/>
                </a:rPr>
                <a:t>Extra Curricular Activiti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Rectangle 42"/>
          <p:cNvSpPr/>
          <p:nvPr/>
        </p:nvSpPr>
        <p:spPr>
          <a:xfrm>
            <a:off x="380880" y="4284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Programs of Study Fit within the Career Clusters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010280" y="1676520"/>
            <a:ext cx="2362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9080" indent="-289080">
              <a:lnSpc>
                <a:spcPct val="12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Key Elements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eer Clus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eer Pat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areer Pathw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ig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lev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2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ran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Knowledge &amp; Skills State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ogram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lan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9080" indent="-289080">
              <a:lnSpc>
                <a:spcPct val="11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cademic Require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5"/>
          <p:cNvSpPr/>
          <p:nvPr/>
        </p:nvSpPr>
        <p:spPr>
          <a:xfrm>
            <a:off x="308520" y="6581880"/>
            <a:ext cx="654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 with permission for educational purposes by the Missouri Center for Career Education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8:13:54Z</dcterms:created>
  <dc:creator>wittmaier</dc:creator>
  <dc:description/>
  <dc:language>en-US</dc:language>
  <cp:lastModifiedBy>rswills</cp:lastModifiedBy>
  <dcterms:modified xsi:type="dcterms:W3CDTF">2008-09-08T21:00:28Z</dcterms:modified>
  <cp:revision>2</cp:revision>
  <dc:subject/>
  <dc:title>Slide 1</dc:title>
</cp:coreProperties>
</file>